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997-682C-4106-B962-A76CCB23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D10-4720-460B-9583-58898E1E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C3C9-D927-4233-8CA4-C0D412F0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AF6-CE4A-42F3-8F4A-79C96D7E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8F1E-1753-4334-B17E-2D97A747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3E4B-6869-4DAB-B4A7-63132DAD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270E-8C2A-4A8B-A1EE-891F1247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E4DA-9897-4EA5-920D-082942A1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0784-02D7-4BF7-90EF-26F9FC72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1A93-10CD-4492-8C33-27667D6E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6550-8F54-4EFB-AAEF-7F0069B6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8C8-0991-4A80-9DD2-679A5D51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5AC5-18C8-4C3D-94BA-5988CE03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077E-08B5-4C5B-800F-E698C46D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2AED-F2E8-4BBA-AA1F-0A9BCC38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529F-E4CA-4637-AAE3-C57A1DC4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81B1-31F5-4B0E-ADA3-AA9CDE4E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901-E452-476F-91FF-5919970D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898-033A-495E-B309-49AE53CB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FF8-F0F5-4C54-B0EA-C9062B2F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EE4-AA42-4B1B-A387-0FE641A4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B1B-8836-4590-AAF1-75516F5C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F18-EF22-4DFD-B536-A1BC20E4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366-EABE-414C-9C15-A5EA5F9D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D648-E564-4A0D-8802-76337306A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E47A-0AA5-470D-8B8E-A267371C0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54240"/>
            <a:ext cx="624852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My daily language use</a:t>
            </a:r>
            <a:br>
              <a:rPr sz="2000"/>
            </a:br>
            <a:r>
              <a:rPr b="1" lang="en-AU" sz="12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2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A.</a:t>
            </a:r>
            <a:r>
              <a:rPr b="1" lang="en-A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 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What is the percentage of use of the various language skills for your daily communication?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a) Listening comprehension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b) Speak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c) Read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d) Writ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B.</a:t>
            </a:r>
            <a:r>
              <a:rPr b="1" lang="en-A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  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What percentage of use of the various language skills would your students need for their daily communication?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a) Listening comprehension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b) Speak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c) Read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d) Writ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C.</a:t>
            </a:r>
            <a:r>
              <a:rPr b="1" lang="en-A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  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What percentage of use of the various language skills would your students need for communication in their future life?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a) Listening comprehension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b) Speak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c) Read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d) Writ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2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endParaRPr b="0" lang="en-US" sz="1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927000"/>
            <a:ext cx="6248520" cy="37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NewCenturySchlbk"/>
              </a:rPr>
              <a:t>"Of all the time spent in communicative activities, adults devote</a:t>
            </a:r>
            <a:r>
              <a:rPr b="1" lang="en-GB" sz="3200" spc="-1" strike="noStrike">
                <a:solidFill>
                  <a:srgbClr val="003300"/>
                </a:solidFill>
                <a:latin typeface="NewCenturySchlbk"/>
              </a:rPr>
              <a:t>:</a:t>
            </a:r>
            <a:br>
              <a:rPr sz="3200"/>
            </a:br>
            <a:br>
              <a:rPr sz="1600"/>
            </a:br>
            <a:r>
              <a:rPr b="1" lang="en-US" sz="3200" spc="-1" strike="noStrike">
                <a:solidFill>
                  <a:srgbClr val="003300"/>
                </a:solidFill>
                <a:latin typeface="NewCenturySchlbk"/>
              </a:rPr>
              <a:t>45% of their energies to listening, 30% to speaking, </a:t>
            </a:r>
            <a:br>
              <a:rPr sz="3200"/>
            </a:br>
            <a:r>
              <a:rPr b="1" lang="en-US" sz="3200" spc="-1" strike="noStrike">
                <a:solidFill>
                  <a:srgbClr val="003300"/>
                </a:solidFill>
                <a:latin typeface="NewCenturySchlbk"/>
              </a:rPr>
              <a:t>16% to reading and </a:t>
            </a:r>
            <a:br>
              <a:rPr sz="3200"/>
            </a:br>
            <a:r>
              <a:rPr b="1" lang="en-GB" sz="3200" spc="-1" strike="noStrike">
                <a:solidFill>
                  <a:srgbClr val="003300"/>
                </a:solidFill>
                <a:latin typeface="NewCenturySchlbk"/>
              </a:rPr>
              <a:t>0</a:t>
            </a:r>
            <a:r>
              <a:rPr b="1" lang="en-US" sz="3200" spc="-1" strike="noStrike">
                <a:solidFill>
                  <a:srgbClr val="003300"/>
                </a:solidFill>
                <a:latin typeface="NewCenturySchlbk"/>
              </a:rPr>
              <a:t>9% to writing."</a:t>
            </a:r>
            <a:r>
              <a:rPr b="1" lang="en-US" sz="2800" spc="-1" strike="noStrike">
                <a:solidFill>
                  <a:srgbClr val="003300"/>
                </a:solidFill>
                <a:latin typeface="NewCenturySchlbk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160" y="5029200"/>
            <a:ext cx="6019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Wilga Rivers, </a:t>
            </a:r>
            <a:r>
              <a:rPr b="1" i="1" lang="en-US" sz="2400" spc="-1" strike="noStrike">
                <a:solidFill>
                  <a:srgbClr val="000000"/>
                </a:solidFill>
                <a:latin typeface="NewCenturySchlbk"/>
              </a:rPr>
              <a:t>A Practical Guide to the Teaching of French</a:t>
            </a: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624816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NewCenturySchlbk"/>
              </a:rPr>
              <a:t>Write a list of the oral or written text-types you come across in your daily life:</a:t>
            </a: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Examples: 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a) a telephone conversation 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b) a song 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c) radio news 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d) a conversation in a shop 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e) email message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f) SMS message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g) recipe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h) newspaper / magazine article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i) Internet advertisement</a:t>
            </a:r>
            <a:endParaRPr b="0" lang="en-US" sz="18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62481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NewCenturySchlbk"/>
              </a:rPr>
              <a:t>List of oral or written text-types one may come across his or her daily life:</a:t>
            </a:r>
            <a:br>
              <a:rPr sz="3200"/>
            </a:br>
            <a:br>
              <a:rPr sz="32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600" y="1523880"/>
          <a:ext cx="647712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64771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221480"/>
            <a:ext cx="6248160" cy="44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NewCenturySchlbk"/>
              </a:rPr>
              <a:t>Text-Type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00"/>
                </a:solidFill>
                <a:latin typeface="NewCenturySchlbk"/>
              </a:rPr>
              <a:t>(a) Speaking: Write a list of as many oral text-types as you can think of.</a:t>
            </a:r>
            <a:br>
              <a:rPr sz="3200"/>
            </a:br>
            <a:r>
              <a:rPr b="1" lang="en-US" sz="3200" spc="-1" strike="noStrike">
                <a:solidFill>
                  <a:srgbClr val="003300"/>
                </a:solidFill>
                <a:latin typeface="NewCenturySchlbk"/>
              </a:rPr>
              <a:t> (b) Writing: Write a list of as many written text-types as you can think of. </a:t>
            </a:r>
            <a:br>
              <a:rPr sz="3200"/>
            </a:b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5:29:39Z</dcterms:created>
  <dc:creator>sal</dc:creator>
  <dc:description/>
  <dc:language>en-US</dc:language>
  <cp:lastModifiedBy>Sofocleous</cp:lastModifiedBy>
  <dcterms:modified xsi:type="dcterms:W3CDTF">2008-02-21T15:41:35Z</dcterms:modified>
  <cp:revision>10</cp:revision>
  <dc:subject/>
  <dc:title>"Of all the time spent in communicative activities, adults devote 45% of their energies to listening, 30% to speaking, 16% to reading and 9% to writing." </dc:title>
</cp:coreProperties>
</file>